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C9830-67EA-4A9D-B8ED-FEAA8650D3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90F33-709E-4691-AD0B-04944D49E8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759B8-7994-42D5-B91E-E24CBF2E85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679AD-3C77-4C30-A4F1-C1AF3C39E5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6933B-0CE2-4533-82B7-FBDB6D2D1A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A9D3C-D8D7-494B-B9FD-54C966AA44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762D8-55FD-47D1-8CB8-B77509CEDA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FA1F1-D4FA-4E3F-8FBF-A171C0874B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FCB5D-1583-4EBE-B7EB-920895A3A8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34032-34B6-4C50-B1DD-E560B13A49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0CC72-A0B6-4F83-A530-1953B845BF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779A3-C743-4BFC-AB08-C0537860B7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B7FB-D088-4185-8B76-20488D2138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dugains.ca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F482-7C2F-49E3-B043-8107332EF2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7720" y="26665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800" spc="-1" strike="noStrike">
                <a:solidFill>
                  <a:srgbClr val="000000"/>
                </a:solidFill>
                <a:latin typeface="Arial"/>
              </a:rPr>
              <a:t>Pursuing Broader Persp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Proportional Reaso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- Guiding Questions to Discus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do you see as the important differences between the curriculum expectation and the learning go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y is it important to make this distin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474E-C773-437A-AC14-DA706FB1E28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A3A1-D871-4739-AACD-A08080DEBE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uiding Questions to Discus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ould you always state the learning goal at the beginning of the lesson?  Why/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do you consider to be the characteristics of a good consolidating ques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992E-2942-483D-BA1D-4176ACF527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1B38-D3C0-49F1-BC4C-8BC7A9B69A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erspective Passport / Math Ma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dividually reflect on your learning and next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rd in your Passport or on your Math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1993-557A-44A1-A9A7-7FA58345BB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FAB5-477F-41CC-A7D1-BB10203E9F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the importance of clearly identify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we want students to know (learning go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e will know that they learned it (consolidating ques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designing lesson frameworks by starting with learning goals and consolidating question(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lore proportional reasoning concepts in curriculum documen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BFC7-4733-4153-A452-00DCDC9168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0227-C2FA-4953-9BA5-98232406AD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ad the article “The House” individu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a highlighter to highlight </a:t>
            </a:r>
            <a:r>
              <a:rPr b="1" i="1" lang="en-CA" sz="24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acilitators will visit each table before you begin reading to provide further instru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B9F8-112C-4FC0-8B16-4F63824A63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B8D0-AE9B-4B92-97E2-3FC731F046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dividually choose what you consider to be the TOP 3 key features that you have highligh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ound Robin – each person will share their TOP 3 with a 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just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me to consensus on your table’s TOP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e prepared to share and 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just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72B7-5165-47AB-8A32-AC38FC67B7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22C8-1D71-4AA7-AE2A-5565854E8B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hare the ‘lens’ that your table was assigned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hare your TOP 3 key features of the house with just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ow does this activity relate to building Learning Goals and Consolidating 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DA73-DAF0-4DFC-8E05-9537AC295C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52AD-30CD-4D9B-8610-FE316EDA74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Big Ideas and Proportional Reasoning K-12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resource on EduGAINS provides us with samples of how to create and connect Big Ideas, Curriculum Expectations, Learning Goals and Consolidation Questions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dugains.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CA" sz="2000" spc="-1" strike="noStrike">
                <a:solidFill>
                  <a:srgbClr val="000000"/>
                </a:solidFill>
                <a:latin typeface="Arial"/>
              </a:rPr>
              <a:t>Math GAINS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1" i="1" lang="en-CA" sz="2000" spc="-1" strike="noStrike">
                <a:solidFill>
                  <a:srgbClr val="0000ff"/>
                </a:solidFill>
                <a:latin typeface="Arial"/>
                <a:ea typeface="Arial"/>
              </a:rPr>
              <a:t>Continuum and Connections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→ </a:t>
            </a:r>
            <a:r>
              <a:rPr b="1" i="1" lang="en-CA" sz="2000" spc="-1" strike="noStrike">
                <a:solidFill>
                  <a:srgbClr val="ff0000"/>
                </a:solidFill>
                <a:latin typeface="Arial"/>
                <a:ea typeface="Arial"/>
              </a:rPr>
              <a:t>Big Ideas and Proportional Reasoning K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7FAD-4AC6-47B5-9FDA-31601B3CC6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FEF2-C4AC-48EF-A102-BF7E8C7A38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3886200"/>
            <a:ext cx="3733920" cy="990720"/>
          </a:xfrm>
          <a:prstGeom prst="cloudCallout">
            <a:avLst>
              <a:gd name="adj1" fmla="val -32907"/>
              <a:gd name="adj2" fmla="val 684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et’s take a look togeth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088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2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ve to the corner of the room that we have designated for grade 9, 10, 11 or 12 and find someone within your corner who wishes to work on a common cou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et materials you will need: Chart Paper, Markers, Curriculum Document (hardcopy or online), access to EduG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nd a space to work.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1992-A7C1-45E8-A1E8-89FE67A0DA1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6079-7D7D-4581-84C4-AC3058B815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304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20 minutes </a:t>
            </a: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ACTIVITY: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You are designing the framework for a les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ind an expectation (or cluster of expectations) that addresses proportional reasoning in the course you have cho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n the chart paper, reco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course code and the curriculum expectation(s) cho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learning goal you would have for your stu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consolidating question(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ink of the broader context and include a statement related to the Big Idea/Enduring Understanding that is addressed by the curriculum expectation(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ost your chart paper when you are d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50B4-F65A-4D5A-8242-9D6BA7BED7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A7E1-AEA7-4308-9C99-8E1FA479B9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533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allery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iew one another’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licitly look for the 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connection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between the curriculum expectation, learning goal and consolidating question(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e sure to ask the ‘artists’ to explain their thinking if you hav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DF30-E747-433D-9455-0E317EF852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FE79-2842-4C75-9EB1-738027C626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Cheryl</cp:lastModifiedBy>
  <dcterms:modified xsi:type="dcterms:W3CDTF">2011-08-06T16:01:52Z</dcterms:modified>
  <cp:revision>38</cp:revision>
  <dc:subject/>
  <dc:title>&lt;Title&gt;</dc:title>
</cp:coreProperties>
</file>